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0D1-F70B-4816-B894-7E5B4B35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B80B-6B79-48B2-A953-940CF088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CFBE-CC6C-49DD-AB27-CD4D1F86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7AC6-19EA-4398-A1DD-4E724401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5273-64B6-4EB7-9517-F2A17F17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946-04F2-4B27-B69C-F0057197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04C1-059A-4DD5-8574-CED0C3A5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8438-78A1-4A46-9BA9-26E1DD95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B533-7796-4A16-9AC8-8038E977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5C4E-5F7C-4211-A494-2035B9B5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4122-B170-4355-9C4D-367ED418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F0B0-BAF7-4595-BFC4-4ABFAB12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8610-D8E8-4D4C-A03F-F0C19A041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76212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N.A.L.C.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 National d’Apprentissage des Langues Or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22096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U.L.C.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lôme de fin de premier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e Chin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41148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diplôme est décerné à Mademoiselle Lydia Raped pour ses résultats aux examens de ju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re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52578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plô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examin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EN00490_" descr=""/>
          <p:cNvPicPr/>
          <p:nvPr/>
        </p:nvPicPr>
        <p:blipFill>
          <a:blip r:embed="rId2"/>
          <a:stretch/>
        </p:blipFill>
        <p:spPr>
          <a:xfrm>
            <a:off x="7391520" y="1905120"/>
            <a:ext cx="175248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EN00490_" descr=""/>
          <p:cNvPicPr/>
          <p:nvPr/>
        </p:nvPicPr>
        <p:blipFill>
          <a:blip r:embed="rId3"/>
          <a:stretch/>
        </p:blipFill>
        <p:spPr>
          <a:xfrm>
            <a:off x="0" y="1981080"/>
            <a:ext cx="17049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09:10Z</dcterms:created>
  <dc:creator>Pavilion Notebook User</dc:creator>
  <dc:description/>
  <dc:language>en-US</dc:language>
  <cp:lastModifiedBy>austin powers</cp:lastModifiedBy>
  <dcterms:modified xsi:type="dcterms:W3CDTF">2002-05-27T22:05:31Z</dcterms:modified>
  <cp:revision>2</cp:revision>
  <dc:subject/>
  <dc:title>Présentation PowerPoint</dc:title>
</cp:coreProperties>
</file>