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4610-1206-4BD7-B470-502EBE7C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DBF0-D6DC-49E2-B3B3-67759D31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6AC9-31F5-49AA-BED2-E57284D0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AF96-8838-44AF-A25C-FDFC0F8A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651F-AA97-42CC-B557-D8187205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ED66-CCF1-45BE-8981-C298DEE6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05F4-FFD1-4F0A-8783-DDFDA28A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B14F-AB70-4579-B7D1-F598ABEB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C99B-9633-43EC-9695-C16CBCDD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2318-7E38-4161-9BEE-27A8A4A2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DDCA-1BFD-4E8A-870B-46BAE434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24A0-16AB-4BA9-96B0-9932E40B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4944-8976-442B-BBF0-C941169C86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762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cole d’Infirmière de la ville de Mas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18288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plôme de fin d’étu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33526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 diplôme est décerné à Mademoiselle Lydia Raped pour ses résultats aux examens de fin d’études de l’année 19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rec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52578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plô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examin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HM00173_" descr=""/>
          <p:cNvPicPr/>
          <p:nvPr/>
        </p:nvPicPr>
        <p:blipFill>
          <a:blip r:embed="rId2"/>
          <a:stretch/>
        </p:blipFill>
        <p:spPr>
          <a:xfrm>
            <a:off x="7315200" y="2590920"/>
            <a:ext cx="1569960" cy="2361960"/>
          </a:xfrm>
          <a:prstGeom prst="rect">
            <a:avLst/>
          </a:prstGeom>
          <a:ln w="0">
            <a:noFill/>
          </a:ln>
        </p:spPr>
      </p:pic>
      <p:pic>
        <p:nvPicPr>
          <p:cNvPr id="48" name="BD07834_" descr=""/>
          <p:cNvPicPr/>
          <p:nvPr/>
        </p:nvPicPr>
        <p:blipFill>
          <a:blip r:embed="rId3"/>
          <a:stretch/>
        </p:blipFill>
        <p:spPr>
          <a:xfrm>
            <a:off x="0" y="2590920"/>
            <a:ext cx="21049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09:10Z</dcterms:created>
  <dc:creator>Pavilion Notebook User</dc:creator>
  <dc:description/>
  <dc:language>en-US</dc:language>
  <cp:lastModifiedBy>austin powers</cp:lastModifiedBy>
  <dcterms:modified xsi:type="dcterms:W3CDTF">2002-05-27T22:05:05Z</dcterms:modified>
  <cp:revision>4</cp:revision>
  <dc:subject/>
  <dc:title>Présentation PowerPoint</dc:title>
</cp:coreProperties>
</file>