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70BB-6F5B-4596-A849-9E69C090F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2348-F05F-46CA-9779-88161445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89C1-A926-4988-AF38-F176058C7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8D45-3537-4F40-A597-7E23D72A2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0AEF-3D5C-49B7-90E9-C36F4E57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25D9-FC91-4537-B55D-C8D3D107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61BB-B68B-48C6-9AB4-C1809E35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06F5-7D43-41D4-A2AE-4B9B2F7A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1985-E31E-4E9A-B1C1-4252266A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92D4-EC08-4673-9EDF-5D1DD056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8335-3F02-4918-9BD6-D1DB1DAA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EC7A-8134-4F24-9A52-84CB9BD5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FD75-591E-43D4-9B00-5B59506A8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62520" y="4495680"/>
            <a:ext cx="571320" cy="507960"/>
          </a:xfrm>
          <a:prstGeom prst="rect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4089240"/>
            <a:ext cx="571320" cy="406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62000" y="2666880"/>
            <a:ext cx="2971800" cy="238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90920" y="2870280"/>
            <a:ext cx="165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00"/>
                </a:solidFill>
                <a:latin typeface="Times New Roman"/>
              </a:rPr>
              <a:t>CARTE DE GROUPE (Receveu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76480" y="2768760"/>
            <a:ext cx="5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6600"/>
                </a:solidFill>
                <a:latin typeface="Times New Roman"/>
              </a:rPr>
              <a:t>Mentions biologiques spécial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62000" y="3276720"/>
            <a:ext cx="217188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133880" y="2666880"/>
            <a:ext cx="0" cy="60984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91120" y="2768760"/>
            <a:ext cx="399960" cy="507960"/>
          </a:xfrm>
          <a:prstGeom prst="rect">
            <a:avLst/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19240" y="3378240"/>
            <a:ext cx="182880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996600"/>
                </a:solidFill>
                <a:latin typeface="Times New Roman"/>
              </a:rPr>
              <a:t>PREMIERE DETERMINATION Nom et Adresse Laboratoi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aboratoire d’Analyses de Biologie Médicale VERDIER J.F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 Rue Saint Laurent – 75005 PAR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62000" y="4089240"/>
            <a:ext cx="2971800" cy="914400"/>
          </a:xfrm>
          <a:prstGeom prst="rect">
            <a:avLst/>
          </a:prstGeom>
          <a:noFill/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62000" y="4597560"/>
            <a:ext cx="800280" cy="0"/>
          </a:xfrm>
          <a:prstGeom prst="line">
            <a:avLst/>
          </a:prstGeom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62280" y="4089240"/>
            <a:ext cx="0" cy="914400"/>
          </a:xfrm>
          <a:prstGeom prst="line">
            <a:avLst/>
          </a:prstGeom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62320" y="4089240"/>
            <a:ext cx="0" cy="508320"/>
          </a:xfrm>
          <a:prstGeom prst="line">
            <a:avLst/>
          </a:prstGeom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5120" y="4191120"/>
            <a:ext cx="609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6600"/>
                </a:solidFill>
                <a:latin typeface="Times New Roman"/>
              </a:rPr>
              <a:t>Chef de Laboratoi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05080" y="408924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996600"/>
                </a:solidFill>
                <a:latin typeface="Times New Roman"/>
              </a:rPr>
              <a:t>N° date examen </a:t>
            </a:r>
            <a:r>
              <a:rPr b="0" lang="fr-FR" sz="600" spc="-1" strike="noStrike">
                <a:solidFill>
                  <a:srgbClr val="000000"/>
                </a:solidFill>
                <a:latin typeface="Times New Roman"/>
              </a:rPr>
              <a:t>E1361               06-02-8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4597560"/>
            <a:ext cx="914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6600"/>
                </a:solidFill>
                <a:latin typeface="Times New Roman"/>
              </a:rPr>
              <a:t>Prélèvement effectué le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06.02.8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6600"/>
                </a:solidFill>
                <a:latin typeface="Times New Roman"/>
              </a:rPr>
              <a:t>Par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ARTH C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62280" y="4394160"/>
            <a:ext cx="120024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19680" y="4089240"/>
            <a:ext cx="0" cy="91440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05200" y="4089240"/>
            <a:ext cx="0" cy="91440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91080" y="4089240"/>
            <a:ext cx="0" cy="91440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591080" y="4800600"/>
            <a:ext cx="34272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591080" y="4699080"/>
            <a:ext cx="34272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591080" y="4597560"/>
            <a:ext cx="34272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591080" y="4495680"/>
            <a:ext cx="34272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33480" y="4394160"/>
            <a:ext cx="39996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591080" y="4292640"/>
            <a:ext cx="34272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33840" y="4089240"/>
            <a:ext cx="285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Du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34920" y="4210200"/>
            <a:ext cx="30888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CD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48320" y="4089240"/>
            <a:ext cx="24120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" spc="-1" strike="noStrike">
                <a:solidFill>
                  <a:srgbClr val="000000"/>
                </a:solidFill>
                <a:latin typeface="Times New Roman"/>
              </a:rPr>
              <a:t>Nég -       -      +      -      +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078440"/>
            <a:ext cx="68580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Détermination AB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4089240"/>
            <a:ext cx="0" cy="3049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90800" y="4089240"/>
            <a:ext cx="0" cy="3049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4089240"/>
            <a:ext cx="609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Détermination Rh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33640" y="4292640"/>
            <a:ext cx="0" cy="1015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05000" y="4292640"/>
            <a:ext cx="0" cy="1015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48080" y="4292640"/>
            <a:ext cx="0" cy="1015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19440" y="4292640"/>
            <a:ext cx="0" cy="1015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62280" y="4383000"/>
            <a:ext cx="6285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" spc="-1" strike="noStrike">
                <a:solidFill>
                  <a:srgbClr val="996600"/>
                </a:solidFill>
                <a:latin typeface="Times New Roman"/>
              </a:rPr>
              <a:t>NOM Prénom        </a:t>
            </a:r>
            <a:r>
              <a:rPr b="0" lang="fr-FR" sz="500" spc="-1" strike="noStrike">
                <a:solidFill>
                  <a:srgbClr val="000000"/>
                </a:solidFill>
                <a:latin typeface="Times New Roman"/>
              </a:rPr>
              <a:t>RAPED Lydia            </a:t>
            </a:r>
            <a:r>
              <a:rPr b="0" lang="fr-FR" sz="500" spc="-1" strike="noStrike">
                <a:solidFill>
                  <a:srgbClr val="996600"/>
                </a:solidFill>
                <a:latin typeface="Times New Roman"/>
              </a:rPr>
              <a:t>Date Lieu de Naissance</a:t>
            </a:r>
            <a:r>
              <a:rPr b="0" lang="fr-FR" sz="500" spc="-1" strike="noStrike">
                <a:solidFill>
                  <a:srgbClr val="000000"/>
                </a:solidFill>
                <a:latin typeface="Times New Roman"/>
              </a:rPr>
              <a:t> 20.02.57 Pétrori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62520" y="3987720"/>
            <a:ext cx="5713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fr-FR" sz="900" spc="-1" strike="noStrike">
                <a:solidFill>
                  <a:srgbClr val="ffffff"/>
                </a:solidFill>
                <a:latin typeface="Times New Roman"/>
              </a:rPr>
              <a:t> Rh</a:t>
            </a: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fr-FR" sz="900" spc="-1" strike="noStrike">
                <a:solidFill>
                  <a:srgbClr val="ffffff"/>
                </a:solidFill>
                <a:latin typeface="Times New Roman"/>
              </a:rPr>
              <a:t>  NEGATIF</a:t>
            </a:r>
            <a:r>
              <a:rPr b="1" lang="fr-FR" sz="6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4495680"/>
            <a:ext cx="62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L   NEGATIF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14880" y="4724280"/>
            <a:ext cx="5713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.A.I. : Négativ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52680" y="4724280"/>
            <a:ext cx="3812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4724280"/>
            <a:ext cx="0" cy="2793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4724280"/>
            <a:ext cx="0" cy="3049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7T15:40:17Z</dcterms:created>
  <dc:creator>Noël BELTRAMIN</dc:creator>
  <dc:description/>
  <dc:language>en-US</dc:language>
  <cp:lastModifiedBy>austin powers</cp:lastModifiedBy>
  <dcterms:modified xsi:type="dcterms:W3CDTF">2002-05-27T21:57:14Z</dcterms:modified>
  <cp:revision>6</cp:revision>
  <dc:subject/>
  <dc:title>Présentation PowerPoint</dc:title>
</cp:coreProperties>
</file>