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9991-EEE2-4B07-A949-ACFB26F3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810-1E48-4787-8709-1DBE351F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0B8-44F8-47A1-9AE4-3A6F0D37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D33-6D0E-4C91-A39A-458AD261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459-2AA1-4626-8327-0DC83FB3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855-3CB1-4BD2-8AFE-2CA48F65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C8F-F0FE-4A19-81F9-48F4A344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30B4-FAE3-4918-A60F-75C7BB46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0323-5F4B-40C8-9F37-607AEC63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A7B-CAAF-4783-BC47-8EC8BA8F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18E0-232A-422C-820C-6A18E57E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FCD9-E722-43DE-95A4-88261A1A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021B-D43C-44D8-A121-E3A224809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N.A.L.C.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 National d’Apprentissage des Langues Or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22096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U.L.C.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e premier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e Chin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41148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ju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EN00490_" descr=""/>
          <p:cNvPicPr/>
          <p:nvPr/>
        </p:nvPicPr>
        <p:blipFill>
          <a:blip r:embed="rId2"/>
          <a:stretch/>
        </p:blipFill>
        <p:spPr>
          <a:xfrm>
            <a:off x="7391520" y="1905120"/>
            <a:ext cx="175248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EN00490_" descr=""/>
          <p:cNvPicPr/>
          <p:nvPr/>
        </p:nvPicPr>
        <p:blipFill>
          <a:blip r:embed="rId3"/>
          <a:stretch/>
        </p:blipFill>
        <p:spPr>
          <a:xfrm>
            <a:off x="0" y="1981080"/>
            <a:ext cx="1704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31Z</dcterms:modified>
  <cp:revision>2</cp:revision>
  <dc:subject/>
  <dc:title>Présentation PowerPoint</dc:title>
</cp:coreProperties>
</file>